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A8D-06FD-4FE3-AEE1-3B11CF9B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C3C-D85C-4065-BF2B-48B8146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EF75B-3677-4C4E-9D25-AAF5B608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E484D-E2A1-44FD-8A76-D967E56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C446B-FD75-4E79-8C70-2B611AD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83FAA-255C-4543-86F9-5195171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0E044-519D-44AF-9F75-B3B51DC8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1443A-9296-4DDC-BDFE-EB29BCE9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0BB4E-FF3E-4188-9B5E-7721844F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D6A45-0616-46EB-91B7-BBD37226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E8336-6CD6-46E4-ABF1-A3ED78AF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2070A-9E7F-4B36-9B77-3B42488E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0C5-9A9B-4E26-B5C5-487927F6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483EE-CC35-4E45-BDBF-6A84A27B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813EC-CFDE-449A-BC80-69DBD858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60626-E398-4843-B7E9-8DCA69C7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ED601-7BD3-4B14-8518-16FCD42C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21475-4118-490E-B4ED-A79D042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41663-92E3-4CA5-B65F-266A4F0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A33D2-63E4-424E-88F5-E95ABD9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F6B11-B208-4698-A7E1-BBD5D1BB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A7CF4-671D-4B36-8C9D-808ECB2E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6A963-7FF4-4445-A0A5-96280C9D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D7D-DC3A-411B-8634-8C5704C3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DC3C5-9E38-4242-8AF3-19E4A626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8649E-E812-4ABE-A796-41D477C1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1FCD2-4242-4B24-AFF4-F0E25804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2C833-79B4-492E-A73D-8B6A605B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9DD51-0F79-47DD-9C65-4FDDFC4C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39CCD-2418-410C-A9C1-D070D125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2EA20-EA89-42EC-90BE-EDEB81E9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A1260-C509-4D4B-B25A-EDFA30E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B5CCE-C0BC-4505-8487-3D062C6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8CB3-8028-4818-A9E9-BB3BF066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DBFA-F487-49FE-9BC1-C4F7FDD5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FC609-92E8-45B3-B76B-DAAABF1E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CB4BB-B434-4577-8243-6EC86D84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20423-FFD6-47BF-962F-8B1F8456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9CA9F-3D74-4FA1-B16C-EEDCB2A3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B36EA-BB54-4559-AE7F-2D4BCCE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E3F0E-1E22-4072-AA06-72CDD230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1F844-CFEF-4520-8435-EF1D109B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92CD6-7D9C-4EB9-AE25-7C8992E9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AFED5-8853-4647-B21F-9CCA49F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D6CA7-5A20-4075-98C7-4747864D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48C1-B97E-4287-A422-3E1DBF7D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9DDF1-30CC-4677-9AE4-B5FDA097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D9BF2-0727-4501-8E04-2F78021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6E523-A687-4DFA-9D39-38B4374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C858D-6144-40B6-AEBE-64075F84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DC345-FC86-47CA-8FF1-7570F5D8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5929-B63C-4242-BC7A-85D68422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1955-E370-469E-869E-B4F6203E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6D3B-F850-4270-8F69-3655C15C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A21D-3B9F-4FBD-B9BF-A43589EE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4944-C57A-4AFF-9DBB-8CAADDFF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F64-94D0-434C-8471-9202D712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BA2E-E413-4B77-8D7E-7F879C6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1CD-A49F-4F5B-82D0-DF2A17E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BAC6-75B7-48E2-B02C-E80C27E7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A16C-7F13-460F-BA30-7F7BE982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FA23-03E5-4348-AD49-F882F252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D3BB-87FA-49CB-90AC-6CE8A642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662F-522D-4D73-A7B4-8705046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150B-1162-4342-A895-28A552D9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9E8B-E450-43AF-B51B-A4E3E942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7060B-C6E3-4F10-A9AE-781D5D5D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327-D960-4C69-8D8D-1F28923F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61C5-516F-4592-8E45-08942B01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29FC-CCA2-42F1-85D4-C4A7712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16AE-B43A-4360-AA41-8F1923B8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2BB3-2187-4655-847D-8A7FF30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25D1-6591-4FD1-B076-096DBB44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2350E-B050-46CB-810D-DD2B76F2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E792-247A-4B9E-9A4C-47FD3DCB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F92C-83F0-46BB-A730-DEBE84DE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68F87-ADEB-45A8-B9BD-DAF517D0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52AC-D28E-4636-A8BC-25069BC8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F65-3976-448C-98E8-1688B082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5375-9132-48EF-989D-A4311E26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BDC3-8450-45D7-AA20-CE1A760F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88968-81A8-47BC-A961-7D798752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FAD4-D04B-4666-9A58-CB4E41E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DC93-8EAA-4CB7-8C18-52278DCE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9476-11B7-448E-9B7A-ECA89CA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F4CB8-E0CD-43C9-AA8B-38662D49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C9F29-E5DE-421E-8EDC-09B1B149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0805-F74C-41EA-882E-A41E332D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1CF0E-8D27-4C39-8C12-E2300452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C8B-C8C4-455F-A80A-87410873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1EB0-1D86-4D11-958F-29E87520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2547A-5D34-4288-AA7D-F125F4E2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C15AB-779C-4184-827C-0A0A53CC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B03F-00A1-4BED-B1B9-A13F272B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0F5CC-0488-4A43-9191-35671BD0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D4EE-E679-456E-89BA-E473A085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CB94-9262-430C-A845-E58FC59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22A96-E3D8-459E-A134-3ABDAEA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1BD4-38E7-43CF-9F54-23AC87FD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9BF0-48E1-4A4A-B1C5-B381E3DD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D5D-35FF-43CB-B9CD-4FF0B46D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5A6DF-F94F-4239-9129-537B0C6E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441A7-5FD9-4116-B689-ADBAAE12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07DEF-FAAC-4FAB-8188-0456FC29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257A-D658-43B8-93EE-B4F7D30B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E03CC-D58B-4496-B2B4-454F35BA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A25E-ABA1-493B-B985-1F4ECF6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80AD6-3048-460A-9E2C-5BAAE7E3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4E5C-E8DE-4D58-9921-264399FF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A7E3D-756E-4E8A-8948-EC6A640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4E23B-C49A-4870-A9B4-EC65DCFD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9C8-4C86-49A6-B3F7-092B24D6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F017C-DDC1-4682-B71A-2C088D17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88618-E501-40AE-B0D9-4C2E7ED6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2295-029B-4A6A-BEB6-942A6D64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1AF1-AFD3-4F49-B822-CCC84D29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A2995-02F1-48C9-AC0E-63EF0124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277C8-BA20-4286-808A-309DE134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60D02-6668-41AD-80DE-115F243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85FF-D94E-4308-8BEC-F7D23E99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1D78A-E3EC-4BC7-B9D3-F275C6CE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9DCFC-9237-4AA8-8475-7040153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F32-414B-425F-87FF-69B811D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2331B-B9F5-4644-AD17-26218E1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A0DAF-89C3-433B-B29B-0841555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352F8-87EA-4382-AFF6-B8B5A5A0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DE2DE-71F3-4618-802C-E2987BDD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8D54E-C97F-4AA5-AD5E-303115B6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F5DDF-76D5-4A01-BC1E-DB5DAEAA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F1088-11EE-45C9-8C3D-FCC5654F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C2A8-6580-4AB0-B209-B57DBC9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161C1-BBC0-436A-8590-84960001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9454C-6BC5-4BDF-95C8-D1478010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4C9-6871-41E3-AF22-44CF2F75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3166E-0A40-4BBF-B5B1-CCE66CDB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BC42-F670-4573-B22C-71623240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F6239-253D-4117-BCB1-0C7C2FA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A1B61-BF95-4635-AB73-D4C8CFA4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27A91-3346-4A5D-9BFC-277364CF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F1FE9-7587-46D7-B161-30BBD1FA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BD21C-9157-4A02-85D9-DBA88624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D69E4-E30D-48B3-AFF6-97D52616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43413-F044-410F-85B0-99412F2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F07CA-EAD2-4203-8CE8-916D12AD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87F1-E600-4BAB-9622-36866A5E6B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4785-4F56-4CF2-A8C3-BA857A1434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BBAC-BA56-4CB1-8A77-21C42FD944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210A-989C-4F36-B7EB-9AD203E267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91B9-5630-441A-A7DD-348EE1AC45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0BE9-38D4-445D-9C18-826279F76F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FB93-6A3F-46AF-B9FB-2E75C9488E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8C2D-21F5-49E5-8598-6ECB7D96CA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483A-5BDD-4D5A-96F8-DB9202A357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B258-AC13-4B94-9C1C-640883F461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36C-9FCB-4EA0-8725-B282DB2101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FA05-4F4D-4D7D-B48B-0FDBF5ABA9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3 Ty si moja rad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od tvojej lásky u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ni bolesť, hoc ma muč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neodlúč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íš sa, srdce m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 svetlo tv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ý tvoj hr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a v každom krí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k tebe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e ti rá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i nedá zblúdiť v tmá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eď postihne ťa žal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tvoja rado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moja rad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ho srdca žiad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Ježiš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cem v svete zúf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le v teba dúf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moc najbliž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i pri mne, pokoj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 teba len, inde nie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é utíš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ochranou tvoj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ľakám sa boj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be štít svoj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 búrka div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ma pred zlým skrýv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chraňuješ s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a satan zničiť ch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to, Pane, nedopust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ma neopu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cem sveta sla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i v nebies vl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poklad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ská česť a sl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u často 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ba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36:52Z</dcterms:modified>
  <cp:revision>22</cp:revision>
  <dc:subject/>
  <dc:title>Je veľký náš Pán, on slávy je Kráľ Nech do všetkých strán  spev vrúcnych znie chvál.</dc:title>
</cp:coreProperties>
</file>